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F109-7C62-4280-9EAC-B5212DD283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ED4C-03D4-4B52-892F-910422F1CD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DB20-F654-4F7D-B52D-1D3A5D489F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5FCB-9881-4459-9214-AA76281C79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2077-99B7-4D5B-ACF9-7F409BF011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5814-4B2F-4127-9AE3-6BD6FF02A3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8BC1-3F13-4191-B619-2B099A0D6A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4231-1C87-4FAB-BB69-E3EFC0EACC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1E15-99AC-48FF-BCD8-160A7B2857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125D-23AB-4C7D-90F2-A48700CBA7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8710-76C9-4BDA-A9AB-630462076A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8431-07B3-44A3-9AE8-100CC39613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DED0-8FFD-43A1-B77C-F83E7B208C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3AB9-F9D4-4C9D-942B-A5D1D35901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2BB7-F27B-4068-80DC-D02F4D5FF8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D5CB-9A78-420C-8E5D-2DB36E111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C6A9-1FDC-43BD-999A-216EE1A6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527A-AA64-4DA3-9681-7F162F2AA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2A2F-199A-4CEC-9D9C-41BE98620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3111-D585-4AA8-8C53-48C4D5A8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3D78-5257-40F1-97C2-1D61796C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2499-F75D-4085-A984-13677FE9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8E2E-BB9B-4499-B454-CA85BF6D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8FAE-AA1C-475E-AB02-6B181F67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1D2D-D41B-4877-867B-B028F6E2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224E-80AF-4E99-A1A9-20594DE7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EBCE-A2BA-4946-88FD-A8C06E3A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369C-05BE-45B9-870A-3B3A11BD1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39640" y="907920"/>
            <a:ext cx="8209080" cy="508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have 3 minutes to answer these maths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hink I can predict who your all time hero i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your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p 1) Un 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úmero entre uno y nue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p 2) x 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p 3) + 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p 4) x 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p 5) take the 2 numbers you will have and add them together e.g. 23 = 2 + 3 =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116000" y="4869000"/>
            <a:ext cx="7273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000" spc="-1" strike="noStrike">
                <a:solidFill>
                  <a:srgbClr val="000000"/>
                </a:solidFill>
                <a:latin typeface="Comic Sans MS"/>
              </a:rPr>
              <a:t>Hay ... laboratorio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bunsen_burner_md_clr.gif"/>
          <p:cNvPicPr/>
          <p:nvPr/>
        </p:nvPicPr>
        <p:blipFill>
          <a:blip r:embed="rId1"/>
          <a:stretch/>
        </p:blipFill>
        <p:spPr>
          <a:xfrm>
            <a:off x="3929040" y="1285920"/>
            <a:ext cx="14526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116000" y="4869000"/>
            <a:ext cx="7273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000" spc="-1" strike="noStrike">
                <a:solidFill>
                  <a:srgbClr val="000000"/>
                </a:solidFill>
                <a:latin typeface="Comic Sans MS"/>
              </a:rPr>
              <a:t>Hay un gimnasi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treadmill_hg_clr.gif"/>
          <p:cNvPicPr/>
          <p:nvPr/>
        </p:nvPicPr>
        <p:blipFill>
          <a:blip r:embed="rId1"/>
          <a:stretch/>
        </p:blipFill>
        <p:spPr>
          <a:xfrm>
            <a:off x="2357280" y="1143000"/>
            <a:ext cx="2200320" cy="3333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weightlifter_barbell_shrugs_hg_clr.gif"/>
          <p:cNvPicPr/>
          <p:nvPr/>
        </p:nvPicPr>
        <p:blipFill>
          <a:blip r:embed="rId2"/>
          <a:stretch/>
        </p:blipFill>
        <p:spPr>
          <a:xfrm>
            <a:off x="4357800" y="1500120"/>
            <a:ext cx="333360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116000" y="4869000"/>
            <a:ext cx="7273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000" spc="-1" strike="noStrike">
                <a:solidFill>
                  <a:srgbClr val="000000"/>
                </a:solidFill>
                <a:latin typeface="Comic Sans MS"/>
              </a:rPr>
              <a:t>Me gustaría tener un cine tambié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cinema.gif"/>
          <p:cNvPicPr/>
          <p:nvPr/>
        </p:nvPicPr>
        <p:blipFill>
          <a:blip r:embed="rId1"/>
          <a:stretch/>
        </p:blipFill>
        <p:spPr>
          <a:xfrm>
            <a:off x="2143080" y="1928880"/>
            <a:ext cx="435312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403280" y="4941720"/>
            <a:ext cx="7272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000" spc="-1" strike="noStrike">
                <a:solidFill>
                  <a:srgbClr val="000000"/>
                </a:solidFill>
                <a:latin typeface="Comic Sans MS"/>
              </a:rPr>
              <a:t>Me gusta porque es..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thumbs up"/>
          <p:cNvPicPr/>
          <p:nvPr/>
        </p:nvPicPr>
        <p:blipFill>
          <a:blip r:embed="rId1"/>
          <a:stretch/>
        </p:blipFill>
        <p:spPr>
          <a:xfrm>
            <a:off x="3492360" y="476280"/>
            <a:ext cx="186552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28760" y="857160"/>
          <a:ext cx="8501040" cy="4799160"/>
        </p:xfrm>
        <a:graphic>
          <a:graphicData uri="http://schemas.openxmlformats.org/drawingml/2006/table">
            <a:tbl>
              <a:tblPr/>
              <a:tblGrid>
                <a:gridCol w="4000320"/>
                <a:gridCol w="4500720"/>
              </a:tblGrid>
              <a:tr h="28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y-GB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gl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y-GB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pañ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ode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i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y school is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m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here are 200 pupi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here are... la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here’s a gy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 would like to have a cinema as w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ecause it is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 like my 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42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ntiguo      moderno       Mi colegio es...      Me gusta mi colegio    pequeño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e gustaría tener un cine también porque es..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ay un gimnasio      grande         Hay doscientos alumnos      Hay...laborator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5" name="TextBox 2"/>
          <p:cNvSpPr/>
          <p:nvPr/>
        </p:nvSpPr>
        <p:spPr>
          <a:xfrm>
            <a:off x="1714680" y="142920"/>
            <a:ext cx="5500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 u="sng">
                <a:solidFill>
                  <a:srgbClr val="000000"/>
                </a:solidFill>
                <a:uFillTx/>
                <a:latin typeface="Arial"/>
              </a:rPr>
              <a:t>Mi Instituto es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(My school is.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428760" y="5286240"/>
            <a:ext cx="8501040" cy="146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800" spc="-1" strike="noStrike">
                <a:solidFill>
                  <a:srgbClr val="000000"/>
                </a:solidFill>
                <a:latin typeface="Arial"/>
              </a:rPr>
              <a:t>Translate:</a:t>
            </a: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 Mi colegio es muy grande- en total, hay mil * alumnos. Mi colegio no es antiguo, es muy moderno. Odio mi colegio porque es aburrido.     [*mil = thousan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Write your own description, starting with “Mi Instituto se llama Kingsley Schoo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539640" y="907920"/>
            <a:ext cx="8209080" cy="546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u héroe 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o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ñorita Tim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s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ñor Ha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es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ñorita Ve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atro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ñorita Braun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nco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ñora South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is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ñora Fly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ete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ñorita Wil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cho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ñor D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ueve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ñor Fu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1557360"/>
            <a:ext cx="849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revise physical descri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revise how to describe pers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share some of your descriptions about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learn how to describe your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write a description of your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684360" y="476280"/>
            <a:ext cx="590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000" spc="-1" strike="noStrike">
                <a:solidFill>
                  <a:srgbClr val="000000"/>
                </a:solidFill>
                <a:latin typeface="Comic Sans MS"/>
              </a:rPr>
              <a:t>Mi Instituto es..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Edgehill"/>
          <p:cNvPicPr/>
          <p:nvPr/>
        </p:nvPicPr>
        <p:blipFill>
          <a:blip r:embed="rId1"/>
          <a:stretch/>
        </p:blipFill>
        <p:spPr>
          <a:xfrm>
            <a:off x="1692360" y="1700280"/>
            <a:ext cx="600876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19280" y="4724280"/>
            <a:ext cx="590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000" spc="-1" strike="noStrike">
                <a:solidFill>
                  <a:srgbClr val="000000"/>
                </a:solidFill>
                <a:latin typeface="Comic Sans MS"/>
              </a:rPr>
              <a:t>grand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school building"/>
          <p:cNvPicPr/>
          <p:nvPr/>
        </p:nvPicPr>
        <p:blipFill>
          <a:blip r:embed="rId1"/>
          <a:stretch/>
        </p:blipFill>
        <p:spPr>
          <a:xfrm>
            <a:off x="1692360" y="549360"/>
            <a:ext cx="576108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619280" y="4724280"/>
            <a:ext cx="590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000" spc="-1" strike="noStrike">
                <a:solidFill>
                  <a:srgbClr val="000000"/>
                </a:solidFill>
                <a:latin typeface="Comic Sans MS"/>
              </a:rPr>
              <a:t>peque</a:t>
            </a: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ñ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school building"/>
          <p:cNvPicPr/>
          <p:nvPr/>
        </p:nvPicPr>
        <p:blipFill>
          <a:blip r:embed="rId1"/>
          <a:stretch/>
        </p:blipFill>
        <p:spPr>
          <a:xfrm>
            <a:off x="2843280" y="1628640"/>
            <a:ext cx="259236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619280" y="4724280"/>
            <a:ext cx="590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000" spc="-1" strike="noStrike">
                <a:solidFill>
                  <a:srgbClr val="000000"/>
                </a:solidFill>
                <a:latin typeface="Comic Sans MS"/>
              </a:rPr>
              <a:t>antigu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castle"/>
          <p:cNvPicPr/>
          <p:nvPr/>
        </p:nvPicPr>
        <p:blipFill>
          <a:blip r:embed="rId1"/>
          <a:stretch/>
        </p:blipFill>
        <p:spPr>
          <a:xfrm>
            <a:off x="2838600" y="1819440"/>
            <a:ext cx="3466800" cy="32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619280" y="4724280"/>
            <a:ext cx="590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000" spc="-1" strike="noStrike">
                <a:solidFill>
                  <a:srgbClr val="000000"/>
                </a:solidFill>
                <a:latin typeface="Comic Sans MS"/>
              </a:rPr>
              <a:t>modern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modernbuilding"/>
          <p:cNvPicPr/>
          <p:nvPr/>
        </p:nvPicPr>
        <p:blipFill>
          <a:blip r:embed="rId1"/>
          <a:stretch/>
        </p:blipFill>
        <p:spPr>
          <a:xfrm>
            <a:off x="2771640" y="1773360"/>
            <a:ext cx="360072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116000" y="4869000"/>
            <a:ext cx="7273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000" spc="-1" strike="noStrike">
                <a:solidFill>
                  <a:srgbClr val="000000"/>
                </a:solidFill>
                <a:latin typeface="Comic Sans MS"/>
              </a:rPr>
              <a:t>Hay doscientos alumno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916360" y="620640"/>
            <a:ext cx="35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20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student with crusch"/>
          <p:cNvPicPr/>
          <p:nvPr/>
        </p:nvPicPr>
        <p:blipFill>
          <a:blip r:embed="rId1"/>
          <a:stretch/>
        </p:blipFill>
        <p:spPr>
          <a:xfrm>
            <a:off x="2700360" y="1989000"/>
            <a:ext cx="333360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12:29:18Z</dcterms:created>
  <dc:creator>Chris Fuller</dc:creator>
  <dc:description/>
  <dc:language>en-US</dc:language>
  <cp:lastModifiedBy>Chris</cp:lastModifiedBy>
  <dcterms:modified xsi:type="dcterms:W3CDTF">2009-05-10T07:55:25Z</dcterms:modified>
  <cp:revision>4</cp:revision>
  <dc:subject/>
  <dc:title>Slide 1</dc:title>
</cp:coreProperties>
</file>